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A36-E921-47D3-AC28-EB889719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2DD-0DDE-44A5-9C99-FA90D551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06F-0D80-42B7-B5F2-4D265F9D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FFF-394F-4249-84A5-14C938E1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65E-7072-4D4B-9238-F8D5D16F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43C-92AB-455D-9D10-8415D108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3EA-4B48-447A-88D5-48CC1467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4ED-F176-4769-8664-7A0EE7D3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CEA2-4A47-481C-A65A-DE461486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FEF-0A94-45BB-9B64-EFF3C607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07F-ECE7-415B-9E2E-633996CF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8D6-2718-4F9C-8916-50623DB5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A1AC7-01BD-4FFA-BFBE-04A814E2E9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76280" y="117360"/>
            <a:ext cx="822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476280" y="117360"/>
            <a:ext cx="822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pro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ifferent 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lectrically charged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476280" y="117360"/>
            <a:ext cx="822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pro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ifferent 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lectrically charged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476280" y="117360"/>
            <a:ext cx="822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pro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ifferent 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elec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lectrically charged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neu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n atom with a different atomic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isot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476280" y="117360"/>
            <a:ext cx="8223120" cy="67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top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s of an element with the same number of protons but different number of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as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p, 0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te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p, 1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t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p, 2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228600" y="117360"/>
            <a:ext cx="87231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isotop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topes that are unstable and will decay (break down into smaller atoms), emitting radiation as their nuclei sp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e (alpha parti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Straight Arrow Connector 2"/>
          <p:cNvCxnSpPr/>
          <p:nvPr/>
        </p:nvCxnSpPr>
        <p:spPr>
          <a:xfrm>
            <a:off x="2581200" y="3373200"/>
            <a:ext cx="687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228600" y="117360"/>
            <a:ext cx="872316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isotop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topes that are unstable and will decay (break down into smaller atoms), emitting radiation as their nuclei sp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e (alpha partic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acti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le of spontaneously emitting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Straight Arrow Connector 2"/>
          <p:cNvCxnSpPr/>
          <p:nvPr/>
        </p:nvCxnSpPr>
        <p:spPr>
          <a:xfrm>
            <a:off x="2581200" y="3373200"/>
            <a:ext cx="687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228600" y="117360"/>
            <a:ext cx="8723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 Atomic Mas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weighted average of all the element's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228600" y="117360"/>
            <a:ext cx="872316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 Atomic Mas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weighted average of all the element's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o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nd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o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n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228600" y="4497480"/>
            <a:ext cx="8723160" cy="85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228600" y="117360"/>
            <a:ext cx="8723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Natural argon contains 99.60% Ar-40 (mass=39.96u), 0.34% Ar-36 (mass=35.97u), and 0.06% Ar-38 (mass=37.96u).  Calculate the average atomic mass of arg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228600" y="117360"/>
            <a:ext cx="872316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Natural argon contains 99.60% Ar-40 (mass=39.96u), 0.34% Ar-36 (mass=35.97u), and 0.06% Ar-38 (mass=37.96u).  Calculate the average atomic mass of arg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-4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39.96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99.6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-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35.97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34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-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37.96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06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476280" y="117360"/>
            <a:ext cx="822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st particle of an element that still retains the identity and properties of th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228600" y="117360"/>
            <a:ext cx="87231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Natural argon contains 99.60% Ar-40 (mass=39.96u), 0.34% Ar-36 (mass=35.97u), and 0.06% Ar-38 (mass=37.96u).  Calculate the average atomic mass of arg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40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9.96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99.6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3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5.97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 0.3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 37.96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 0.06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know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atomic mass (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228600" y="117360"/>
            <a:ext cx="8723160" cy="48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atural argon contains 99.60% Ar-40 (mass=39.96u), 0.34% Ar-36 (mass=35.97u), and 0.06% Ar-38 (mass=37.96u).  Calculate the average atomic mass of ar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40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9.96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= 99.6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3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5.97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3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7.96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06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know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atomic mass (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A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228600" y="117360"/>
            <a:ext cx="8723160" cy="62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atural argon contains 99.60% Ar-40 (mass=39.96u), 0.34% Ar-36 (mass=35.97u), and 0.06% Ar-38 (mass=37.96u).  Calculate the average atomic mass of arg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40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9.96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99.6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3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5.97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3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-3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mass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37.96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ndance (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06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know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atomic mass (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(A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A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39.96u x 0.9660) + (35.97u x 0.0034) + (37.96u x 0.0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9.8u + 0.12u + 0.02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9.94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228600" y="117360"/>
            <a:ext cx="87231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t's your tu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 p 19 #1-4,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476280" y="117360"/>
            <a:ext cx="82231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st particle of an element that still retains the identity and properties of th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76280" y="3228840"/>
          <a:ext cx="8223120" cy="2500560"/>
        </p:xfrm>
        <a:graphic>
          <a:graphicData uri="http://schemas.openxmlformats.org/drawingml/2006/table">
            <a:tbl>
              <a:tblPr/>
              <a:tblGrid>
                <a:gridCol w="2741760"/>
                <a:gridCol w="2739960"/>
                <a:gridCol w="27414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s (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ctric Ch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 (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 (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 (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 (~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476280" y="117360"/>
            <a:ext cx="8223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c Numbe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rotons (p) in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lso the number of electron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a neutral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476280" y="117360"/>
            <a:ext cx="82231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c Numbe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rotons (p) in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lso the number of electron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a neutral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 Numb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umber of protons (p) &amp; neutrons (n) in the nucle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. mass number = p + 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he atomic mass rounded to a whol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476280" y="117360"/>
            <a:ext cx="822312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c Numbe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rotons (p) in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lso the number of electron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a neutral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s Numb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umber of protons (p) &amp; neutrons (n) in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. mass number = p +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he atomic mass rounded to a whol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101680" y="1895400"/>
            <a:ext cx="1957680" cy="239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76280" y="117360"/>
            <a:ext cx="82231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tope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Straight Arrow Connector 5"/>
          <p:cNvCxnSpPr/>
          <p:nvPr/>
        </p:nvCxnSpPr>
        <p:spPr>
          <a:xfrm flipH="1">
            <a:off x="2873160" y="1895040"/>
            <a:ext cx="1645200" cy="583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6"/>
          <p:cNvCxnSpPr/>
          <p:nvPr/>
        </p:nvCxnSpPr>
        <p:spPr>
          <a:xfrm flipH="1" flipV="1">
            <a:off x="3847320" y="3060360"/>
            <a:ext cx="670680" cy="146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7"/>
          <p:cNvCxnSpPr/>
          <p:nvPr/>
        </p:nvCxnSpPr>
        <p:spPr>
          <a:xfrm flipH="1" flipV="1">
            <a:off x="2873160" y="3698640"/>
            <a:ext cx="1645200" cy="77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476280" y="117360"/>
            <a:ext cx="822312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isotope notation for the following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P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476280" y="117360"/>
            <a:ext cx="8223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, Ions, &amp; Isot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the number of pro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ifferent 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you get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2:46:56Z</dcterms:created>
  <dc:creator>J Curtis</dc:creator>
  <dc:description/>
  <dc:language>en-US</dc:language>
  <cp:lastModifiedBy>J Curtis</cp:lastModifiedBy>
  <dcterms:modified xsi:type="dcterms:W3CDTF">2013-02-13T14:41:16Z</dcterms:modified>
  <cp:revision>40</cp:revision>
  <dc:subject/>
  <dc:title>PowerPoint Presentation</dc:title>
</cp:coreProperties>
</file>